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9A9-CCE9-40B7-99F8-B6D0D177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014-1E94-4400-B804-FA29A2E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290-B92C-437D-8536-69FD5CC0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636-6F50-43F7-B14A-659A8E9D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61D-451C-4542-A477-10EE0E4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7C4-7540-43A8-9556-3433D7A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95B-A465-456E-A5F2-9A0A894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429-C5DF-4B5C-BCC9-90111CB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F6F-4B30-4830-979E-48E3DB3A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5C2-8FE5-4B51-9832-037CFB3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EB5-2B9B-492F-BA4E-3B07DA3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1D0-0257-48FF-AA9F-5F810E2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7F1-7057-44E0-9199-D59EE565962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could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ight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ay </a:t>
            </a: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m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TRACK 1  I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essi can’t drive 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hat fat guy couldn’t be a football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are almost certain that it is not tr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ary has a green car. She lives in a green house. Her room is green. She always wears a green 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he likes green. (You are certain) (100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hat boy is reading ‘The Guardian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51988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could be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learning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ight be improving his Engl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ay be a foreig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hat man is carrying an Italian magazine. He is speaking Italian to the people with h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067280" y="1981080"/>
            <a:ext cx="38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must be Ital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Now read the situations below and write sentences with your frien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ony goes abroad every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Mary and her mother eat a pizza everyd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im always carries old people’s ba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ally drives a Mercedes and lives in a villa in Cekmeko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here are a lot of Richard Gere posters in my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r Broth always wears a blue t-shi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 like b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- to express pos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You are making a gu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You show that you believe something is possible (50% certain), but you are not certain if it 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true or 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could like blue.               less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might like blue.              less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He may like blue.                 more cert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Mrs Tookon always wears a red hat, a red skirt and red sho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8478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he must like 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- to express prob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show that you belive something is probably true (90 % cer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971640" y="1628640"/>
            <a:ext cx="58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Look at the tall man! He is carrying a stethosco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4314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He .....................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You are almost certain that it is tr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3:06:23Z</dcterms:created>
  <dc:creator>eaeray</dc:creator>
  <dc:description/>
  <dc:language>en-US</dc:language>
  <cp:lastModifiedBy>EFL</cp:lastModifiedBy>
  <dcterms:modified xsi:type="dcterms:W3CDTF">2012-02-19T16:11:33Z</dcterms:modified>
  <cp:revision>18</cp:revision>
  <dc:subject/>
  <dc:title>could might may</dc:title>
</cp:coreProperties>
</file>